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D32E-8C70-418B-A0B3-BA2C04E5536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F1E0-DDEE-4191-899B-18558739E81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CA55-52F9-46CB-BCDE-E938B78D30B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5963-492A-4081-98D8-29F3E692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A54-81F4-4D1F-B803-605CD241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CE714-DB18-4EA4-8D8C-31C64ABE5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1876-44B8-4D8A-8700-475DA85F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F774C-8269-4953-BFCA-AB431A55985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38F1E-C33C-4CF7-98E3-F688F4FB8D1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0F885-4EE9-42EE-9ED6-A64E96FB53E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D46EE-9468-4D5C-BF1B-720C4955A1F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D3920-CEE7-4178-BD2D-9AF6AE651E6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D43BD-3F3F-4496-8617-D0F50238710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9AAD2-7B6D-43D5-B216-D90BD2ADD73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137B8-E2CB-4186-8602-547FAF1EA1F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9D68F-FC7F-4974-8ED6-9E44B62388A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B789F-4B21-40A4-94E1-D432AFDC9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D30A-66ED-4F3B-AB75-957CAE855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8F3C2-0D02-465B-A3EA-D4FA75F71AE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A33D-A721-4196-B24A-0D1ACA5D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8147-5B89-4C01-A9FF-0BF2CD31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CC1E6-F6F1-4CC9-9C30-92806A06D60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98CC8-EDB5-4E4C-B2FB-672C1D89CC0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871F9-ADDE-4717-857A-1ECC88CFC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CE2-6530-4631-93EB-9918F1B6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1345B-86D2-42D7-9809-B7D56C5E64B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3A223-6254-4048-872E-76DA730957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66741-A9A9-41A1-A1B0-C563917EE62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93F8C-11B1-47D7-B2B7-B43E462DCF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2AF66-2B71-4F0E-89FE-6C4C41DC3FE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8F39A-C4AB-4C26-A4C7-A4A1FF5ED50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5922C-F7EA-434F-BB28-DAFD0549792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5082E-FABA-4CE0-801F-67AE27E7145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A29FA-D4B8-452F-8A7E-D8DCC6BD91F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C583C9-DD4B-4D95-B21B-8763D9EF3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A32C-9D07-49B4-84FD-84B312A8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0E5585-20B0-469F-880C-73543679EB0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3DC557-81F9-494A-99D7-F05BD459792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784DC7-D64D-4F64-8649-FBA83241632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3CACB2-D516-4FCF-A901-D8EC4D69504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6260E1-074F-4D9B-A2E4-14E176127E3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A7CC85-926E-4810-9939-E9DF2860835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57A112-9419-416F-8B4D-6EB410C69EE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2CB582-F6ED-4668-9A55-C17C8A4DF2B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305DA5-78F9-4493-9E08-7B30CCEA9B2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33ECC3-F548-42E7-B50B-938A4EFC6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FA0E-BB05-4565-BB96-80DA7236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931BB0-A5EE-407B-8173-7EA2E25167D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D502-78EC-4ED5-B429-C7004B7A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4250-5F97-4FBE-87BB-24626FF5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5112-C588-49C1-880D-B1494C1D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86A1-B9C0-4FB6-BE2F-987E832E40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7AF7-5A75-4818-924A-B1C1B088BD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CB04-A161-4B86-A18D-41CFEC9555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DCDC-BEC5-48A5-8BA2-89CB7A1F68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数字证书更新办理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8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数字证书更新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55640" y="2349360"/>
            <a:ext cx="806436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数字证书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有效期为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证书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到期前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3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天内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需要更新数字证书，否则数字证书无法继续使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52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324000" y="981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在数字证书客户端工具中，在证书服务中点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更新服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图片 4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056720" cy="45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112"/>
          <p:cNvSpPr/>
          <p:nvPr/>
        </p:nvSpPr>
        <p:spPr>
          <a:xfrm>
            <a:off x="1714680" y="119160"/>
            <a:ext cx="54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填写用户基本信息和下载更新证书申请资料并进行填写，填写的信息确认与公司信息一致后在线提交更新数字证书请求；申请材料包括：营业执照副本复印件、组织机构代码副本证复印件（如企业已办理三证合一，只需要提供营业执照副本）、数字证书申请表、联系人身份证复印件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图片 2" descr=""/>
          <p:cNvPicPr/>
          <p:nvPr/>
        </p:nvPicPr>
        <p:blipFill>
          <a:blip r:embed="rId1"/>
          <a:stretch/>
        </p:blipFill>
        <p:spPr>
          <a:xfrm>
            <a:off x="225360" y="2735280"/>
            <a:ext cx="83329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12"/>
          <p:cNvSpPr/>
          <p:nvPr/>
        </p:nvSpPr>
        <p:spPr>
          <a:xfrm>
            <a:off x="1714680" y="11916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"/>
          <p:cNvSpPr/>
          <p:nvPr/>
        </p:nvSpPr>
        <p:spPr>
          <a:xfrm>
            <a:off x="324000" y="981000"/>
            <a:ext cx="813564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司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支付凭证快递到天威诚信数字证书服务中心（地址请见第五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的纸质申请材料并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数字证书更新密码邮件发送给供应商，并短信通知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接收天威诚信更新密码通知邮件，按照邮件说明完成在线更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5"/>
          <p:cNvSpPr/>
          <p:nvPr/>
        </p:nvSpPr>
        <p:spPr>
          <a:xfrm>
            <a:off x="642960" y="1500120"/>
            <a:ext cx="8066160" cy="35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更新数字证书费用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185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数字证书有效期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三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开始日期从证书更新成功之日开始计算，不限制使用次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注：要求供应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智能卡介质未损坏并可继续使用，如损坏，则按照初次办理流程进行收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5"/>
          <p:cNvSpPr/>
          <p:nvPr/>
        </p:nvSpPr>
        <p:spPr>
          <a:xfrm>
            <a:off x="642960" y="928800"/>
            <a:ext cx="80661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有限公司更新证书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张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8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5"/>
          <p:cNvSpPr/>
          <p:nvPr/>
        </p:nvSpPr>
        <p:spPr>
          <a:xfrm>
            <a:off x="684360" y="1268280"/>
            <a:ext cx="806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服务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远程办理方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快递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北京市海淀区上地八街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楼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1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室，北京天威诚信电子商务服务有限公司，认证服务部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10-509475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24Z</dcterms:modified>
  <cp:revision>231</cp:revision>
  <dc:subject/>
  <dc:title>幻灯片 1</dc:title>
</cp:coreProperties>
</file>